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5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860-5D46-4C27-80CC-9D8B919C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A43-9908-436D-A401-F9932D53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D70-B636-4448-9B3E-09906D31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7F2-34F7-43BC-ABB6-59615DD5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27F-36E4-46CF-8380-6C0FCFD7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806-1A02-48C0-BA7F-5F6B2261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2DD-6B39-4F3B-8A52-2F202A8D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15F-71B9-4731-95A9-EC45EDC9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D92-D594-49FB-8FE7-78722B87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483-6CB5-446F-A9C4-675D6F83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319-E723-4E23-A8F8-4B4B704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076-16AB-4AF0-A6A8-654B9118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85D5-26FA-4E5A-BD04-1D215D304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31.jpe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Arial"/>
                <a:ea typeface="Arial"/>
              </a:rPr>
              <a:t>О стратегических направлениях развития инфраструктуры поддержки высокотехнологичной промышл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40000" y="4941360"/>
            <a:ext cx="61927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0253f"/>
                </a:solidFill>
                <a:latin typeface="Arial"/>
                <a:ea typeface="Arial"/>
              </a:rPr>
              <a:t>Пигунова М.В. – начальник отдела стратегического планирования и аналитической работ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755640" y="333360"/>
            <a:ext cx="7920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ДЕПАРТАМЕНТ ПРОМЫШЛЕННОСТИ ВОРОНЕЖ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Направление Стратегии-2035 «Развитие высокотехнологичного промышленного комплек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Ю ЗА ВНИМАНИЕ!</a:t>
            </a:r>
            <a:br>
              <a:rPr sz="32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pigunova@govvrn.ru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2-75-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клад высокотехнологичного сектора в обрабатывающую промышленность реги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Диаграмма 3" descr=""/>
          <p:cNvPicPr/>
          <p:nvPr/>
        </p:nvPicPr>
        <p:blipFill>
          <a:blip r:embed="rId2"/>
          <a:stretch/>
        </p:blipFill>
        <p:spPr>
          <a:xfrm>
            <a:off x="103320" y="1407960"/>
            <a:ext cx="4260600" cy="5267520"/>
          </a:xfrm>
          <a:prstGeom prst="rect">
            <a:avLst/>
          </a:prstGeom>
          <a:ln w="0">
            <a:noFill/>
          </a:ln>
        </p:spPr>
      </p:pic>
      <p:pic>
        <p:nvPicPr>
          <p:cNvPr id="46" name="Диаграмма 4" descr=""/>
          <p:cNvPicPr/>
          <p:nvPr/>
        </p:nvPicPr>
        <p:blipFill>
          <a:blip r:embed="rId3"/>
          <a:stretch/>
        </p:blipFill>
        <p:spPr>
          <a:xfrm>
            <a:off x="4206960" y="1547640"/>
            <a:ext cx="47847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ы целеполагания в сфере развития высокотехнологичного промышленного компле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"/>
          <p:cNvGrpSpPr/>
          <p:nvPr/>
        </p:nvGrpSpPr>
        <p:grpSpPr>
          <a:xfrm>
            <a:off x="9360" y="743040"/>
            <a:ext cx="9134640" cy="6114960"/>
            <a:chOff x="9360" y="743040"/>
            <a:chExt cx="9134640" cy="6114960"/>
          </a:xfrm>
        </p:grpSpPr>
        <p:sp>
          <p:nvSpPr>
            <p:cNvPr id="50" name="AutoShape 17"/>
            <p:cNvSpPr/>
            <p:nvPr/>
          </p:nvSpPr>
          <p:spPr>
            <a:xfrm>
              <a:off x="9360" y="743040"/>
              <a:ext cx="9134640" cy="6114960"/>
            </a:xfrm>
            <a:prstGeom prst="rect">
              <a:avLst/>
            </a:prstGeom>
            <a:noFill/>
            <a:ln w="19080">
              <a:solidFill>
                <a:srgbClr val="0f2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6"/>
            <p:cNvSpPr/>
            <p:nvPr/>
          </p:nvSpPr>
          <p:spPr>
            <a:xfrm>
              <a:off x="199440" y="890640"/>
              <a:ext cx="8544600" cy="115884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ысокотехнологичный сектор промышленности Воронежской области 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–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материально-техническая основа для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шения стратегических задач экономического и социального развития области, повышения уровня и качества жизни российских граждан, проживающих на ее территор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199440" y="2345040"/>
              <a:ext cx="2695320" cy="180756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оздать условия для реализации программ модернизации и технологического обновления промышленных предприят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3229200" y="2345040"/>
              <a:ext cx="2560680" cy="1807560"/>
            </a:xfrm>
            <a:prstGeom prst="rect">
              <a:avLst/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пособствовать внедрению новейших технологических разработок в промышленное произво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6085800" y="2345040"/>
              <a:ext cx="2655720" cy="180756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формировать эффективную систему коммуникации и кооперации в сферах промышленности, науки и образ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2"/>
            <p:cNvSpPr/>
            <p:nvPr/>
          </p:nvSpPr>
          <p:spPr>
            <a:xfrm>
              <a:off x="352440" y="1972440"/>
              <a:ext cx="2542320" cy="369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63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ЗАДАЧА №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1"/>
            <p:cNvSpPr/>
            <p:nvPr/>
          </p:nvSpPr>
          <p:spPr>
            <a:xfrm>
              <a:off x="3285720" y="1972440"/>
              <a:ext cx="2676240" cy="369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63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ЗАДАЧА №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0"/>
            <p:cNvSpPr/>
            <p:nvPr/>
          </p:nvSpPr>
          <p:spPr>
            <a:xfrm>
              <a:off x="6085800" y="1972440"/>
              <a:ext cx="2655720" cy="371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63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ЗАДАЧА №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9"/>
            <p:cNvSpPr/>
            <p:nvPr/>
          </p:nvSpPr>
          <p:spPr>
            <a:xfrm>
              <a:off x="199440" y="4401000"/>
              <a:ext cx="8542080" cy="656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ализация комплекса мер стимулирования на базе распределенной инфраструктуры поддержки деятельности в сфере промышлен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8"/>
            <p:cNvSpPr/>
            <p:nvPr/>
          </p:nvSpPr>
          <p:spPr>
            <a:xfrm>
              <a:off x="1790280" y="4038840"/>
              <a:ext cx="5474880" cy="409680"/>
            </a:xfrm>
            <a:prstGeom prst="downArrowCallout">
              <a:avLst>
                <a:gd name="adj1" fmla="val 334249"/>
                <a:gd name="adj2" fmla="val 334156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243f60"/>
                </a:gs>
              </a:gsLst>
              <a:lin ang="2700000"/>
            </a:gradFill>
            <a:ln w="12600">
              <a:solidFill>
                <a:srgbClr val="f2f2f2"/>
              </a:solidFill>
              <a:miter/>
            </a:ln>
            <a:effectLst>
              <a:outerShdw dist="153753" dir="2700000" blurRad="0" rotWithShape="0">
                <a:srgbClr val="b8cce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288000" y="5181120"/>
              <a:ext cx="2828160" cy="1580400"/>
            </a:xfrm>
            <a:prstGeom prst="flowChartMultidocument">
              <a:avLst/>
            </a:prstGeom>
            <a:solidFill>
              <a:srgbClr val="ffffff"/>
            </a:solidFill>
            <a:ln w="63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НФРАСТРУКТУРА ДЛЯ РАЗМЕЩЕНИЯ ПРОИЗВОДСТВЕННЫХ И ИНЫХ ОБЪЕКТОВ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НВЕСТОР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6"/>
            <p:cNvSpPr/>
            <p:nvPr/>
          </p:nvSpPr>
          <p:spPr>
            <a:xfrm>
              <a:off x="3203640" y="5181120"/>
              <a:ext cx="2522160" cy="1580400"/>
            </a:xfrm>
            <a:prstGeom prst="flowChartMultidocument">
              <a:avLst/>
            </a:prstGeom>
            <a:solidFill>
              <a:srgbClr val="ffffff"/>
            </a:solidFill>
            <a:ln w="63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ННОВАЦИОННО-ПРОИЗВОДСТВЕННАЯ ИНФРАСТРУК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5"/>
            <p:cNvSpPr/>
            <p:nvPr/>
          </p:nvSpPr>
          <p:spPr>
            <a:xfrm>
              <a:off x="5866200" y="5181120"/>
              <a:ext cx="2878200" cy="1580400"/>
            </a:xfrm>
            <a:prstGeom prst="flowChartMultidocument">
              <a:avLst/>
            </a:prstGeom>
            <a:solidFill>
              <a:srgbClr val="ffffff"/>
            </a:solidFill>
            <a:ln w="63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НФРАСТРУКТУРА ФИНАНСОВОЙ И (ИЛИ) ИНФОРМАЦИОННО-КОНСУЛЬТАЦИОННОЙ ПОДДЕРЖ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4"/>
            <p:cNvSpPr/>
            <p:nvPr/>
          </p:nvSpPr>
          <p:spPr>
            <a:xfrm rot="5400000">
              <a:off x="1037520" y="4950000"/>
              <a:ext cx="270720" cy="4856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f81bd"/>
                </a:gs>
                <a:gs pos="100000">
                  <a:srgbClr val="243f60"/>
                </a:gs>
              </a:gsLst>
              <a:lin ang="2700000"/>
            </a:gradFill>
            <a:ln w="12600">
              <a:solidFill>
                <a:srgbClr val="f2f2f2"/>
              </a:solidFill>
              <a:miter/>
            </a:ln>
            <a:effectLst>
              <a:outerShdw dist="153753" dir="2700000" blurRad="0" rotWithShape="0">
                <a:srgbClr val="b8cce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"/>
            <p:cNvSpPr/>
            <p:nvPr/>
          </p:nvSpPr>
          <p:spPr>
            <a:xfrm rot="5400000">
              <a:off x="4420800" y="4950000"/>
              <a:ext cx="270720" cy="4856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bbb59"/>
                </a:gs>
                <a:gs pos="100000">
                  <a:srgbClr val="4e6128"/>
                </a:gs>
              </a:gsLst>
              <a:lin ang="2700000"/>
            </a:gradFill>
            <a:ln w="12600">
              <a:solidFill>
                <a:srgbClr val="f2f2f2"/>
              </a:solidFill>
              <a:miter/>
            </a:ln>
            <a:effectLst>
              <a:outerShdw dist="153753" dir="2700000" blurRad="0" rotWithShape="0">
                <a:srgbClr val="d6e3b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"/>
            <p:cNvSpPr/>
            <p:nvPr/>
          </p:nvSpPr>
          <p:spPr>
            <a:xfrm rot="5400000">
              <a:off x="7971480" y="4950720"/>
              <a:ext cx="272160" cy="4856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622423"/>
                </a:gs>
              </a:gsLst>
              <a:lin ang="2700000"/>
            </a:gradFill>
            <a:ln w="12600">
              <a:solidFill>
                <a:srgbClr val="f2f2f2"/>
              </a:solidFill>
              <a:miter/>
            </a:ln>
            <a:effectLst>
              <a:outerShdw dist="153753" dir="2700000" blurRad="0" rotWithShape="0">
                <a:srgbClr val="e5b8b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Распределенная инфраструктура поддержки деятельности в сфере промышлен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"/>
          <p:cNvGrpSpPr/>
          <p:nvPr/>
        </p:nvGrpSpPr>
        <p:grpSpPr>
          <a:xfrm>
            <a:off x="0" y="981000"/>
            <a:ext cx="9144000" cy="5877000"/>
            <a:chOff x="0" y="981000"/>
            <a:chExt cx="9144000" cy="5877000"/>
          </a:xfrm>
        </p:grpSpPr>
        <p:sp>
          <p:nvSpPr>
            <p:cNvPr id="69" name="AutoShape 39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noFill/>
            <a:ln w="19080">
              <a:solidFill>
                <a:srgbClr val="0f2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8"/>
            <p:cNvSpPr/>
            <p:nvPr/>
          </p:nvSpPr>
          <p:spPr>
            <a:xfrm>
              <a:off x="351360" y="2557800"/>
              <a:ext cx="2568960" cy="8485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НФРАСТРУКТУРА ДЛЯ РАЗМЕЩЕНИЯ ПРОИЗВОДСТВЕННЫХ И ИНЫХ ОБЪЕКТОВ ИНВЕСТОР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7"/>
            <p:cNvSpPr/>
            <p:nvPr/>
          </p:nvSpPr>
          <p:spPr>
            <a:xfrm>
              <a:off x="3249720" y="2557800"/>
              <a:ext cx="2561760" cy="8485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ННОВАЦИОННО-ПРОИЗВОДСТВЕННАЯ ИНФРАСТРУКТУР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"/>
            <p:cNvSpPr/>
            <p:nvPr/>
          </p:nvSpPr>
          <p:spPr>
            <a:xfrm>
              <a:off x="6328440" y="2557800"/>
              <a:ext cx="2600640" cy="8485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НФРАСТРУКТУРА ФИНАНСОВОЙ И (ИЛИ) ИНФОРМАЦИОННО-КОНСУЛЬТАЦИОННОЙ ПОДДЕРЖ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5"/>
            <p:cNvSpPr/>
            <p:nvPr/>
          </p:nvSpPr>
          <p:spPr>
            <a:xfrm>
              <a:off x="3249720" y="3521160"/>
              <a:ext cx="2564280" cy="42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гиональные центры инжиниринг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4"/>
            <p:cNvSpPr/>
            <p:nvPr/>
          </p:nvSpPr>
          <p:spPr>
            <a:xfrm>
              <a:off x="3249720" y="4092480"/>
              <a:ext cx="2564280" cy="32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Центры прототипир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3"/>
            <p:cNvSpPr/>
            <p:nvPr/>
          </p:nvSpPr>
          <p:spPr>
            <a:xfrm>
              <a:off x="3249720" y="4532040"/>
              <a:ext cx="2564280" cy="38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Центры испытаний и сертификац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2"/>
            <p:cNvSpPr/>
            <p:nvPr/>
          </p:nvSpPr>
          <p:spPr>
            <a:xfrm>
              <a:off x="3249720" y="5495760"/>
              <a:ext cx="2564280" cy="820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чебные центр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Научно-образовательные центр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Научно-производственные центры, комплексы. Базовые кафедр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677280" y="3521160"/>
              <a:ext cx="2254320" cy="45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Центр кластерного развития промышлен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6677280" y="5065920"/>
              <a:ext cx="2254320" cy="60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пециализированные организации промышленных кластер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9"/>
            <p:cNvSpPr/>
            <p:nvPr/>
          </p:nvSpPr>
          <p:spPr>
            <a:xfrm>
              <a:off x="6677280" y="4092480"/>
              <a:ext cx="2254320" cy="72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Центр координации поддержки экспортно ориентированных субъектов малого и среднего предпринимательст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6676200" y="5827320"/>
              <a:ext cx="225144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050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Государственный фонд развития промышлен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7"/>
            <p:cNvSpPr/>
            <p:nvPr/>
          </p:nvSpPr>
          <p:spPr>
            <a:xfrm>
              <a:off x="623520" y="3521160"/>
              <a:ext cx="2297160" cy="1069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ндустриальные (промышленные) пар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аслов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Лискин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Бобров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ерспекти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6"/>
            <p:cNvSpPr/>
            <p:nvPr/>
          </p:nvSpPr>
          <p:spPr>
            <a:xfrm>
              <a:off x="623520" y="4703040"/>
              <a:ext cx="2297160" cy="79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Технопарки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смос-Нефть-Га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Авиацион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одружеств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5"/>
            <p:cNvSpPr/>
            <p:nvPr/>
          </p:nvSpPr>
          <p:spPr>
            <a:xfrm>
              <a:off x="3249720" y="5007960"/>
              <a:ext cx="25642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Центры технологических компетенц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4"/>
            <p:cNvSpPr/>
            <p:nvPr/>
          </p:nvSpPr>
          <p:spPr>
            <a:xfrm>
              <a:off x="623520" y="5590800"/>
              <a:ext cx="2297160" cy="72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мышленные технопарки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смос-Нефть-Га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Авиацион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>
              <a:off x="106560" y="1070640"/>
              <a:ext cx="2899440" cy="1392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ИНПРОМТОРГ РОССИИ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программа </a:t>
              </a: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«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звитие промышленной инфраструктуры и инфраструктуры поддержки деятельности в сфере промышленности</a:t>
              </a: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22"/>
            <p:cNvSpPr/>
            <p:nvPr/>
          </p:nvSpPr>
          <p:spPr>
            <a:xfrm>
              <a:off x="3089880" y="1070640"/>
              <a:ext cx="2833200" cy="1392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ИНОБРНАУКИ РОССИИ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оритетный проект </a:t>
              </a: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«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узы как центры пространства создания инноваций</a:t>
              </a: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»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</a:t>
              </a:r>
              <a:r>
                <a:rPr b="0" i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центры инновационного, технологического развития регионов, инжиниринговые центры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21"/>
            <p:cNvSpPr/>
            <p:nvPr/>
          </p:nvSpPr>
          <p:spPr>
            <a:xfrm>
              <a:off x="6008040" y="1070640"/>
              <a:ext cx="2919600" cy="1392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ИНЭКОНОМРАЗВИТИЯ РОСС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дпрограмма 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«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азвитие малого и среднего предпринимательства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»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государственной программы 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«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Экономическое развитие и инновационная экономика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»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20"/>
            <p:cNvSpPr/>
            <p:nvPr/>
          </p:nvSpPr>
          <p:spPr>
            <a:xfrm>
              <a:off x="2731680" y="1070640"/>
              <a:ext cx="358200" cy="39096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4f81bd"/>
            </a:solidFill>
            <a:ln w="127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19"/>
            <p:cNvSpPr/>
            <p:nvPr/>
          </p:nvSpPr>
          <p:spPr>
            <a:xfrm>
              <a:off x="5726160" y="1070640"/>
              <a:ext cx="358200" cy="3920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bbb59"/>
            </a:solidFill>
            <a:ln w="1270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18"/>
            <p:cNvCxnSpPr/>
            <p:nvPr/>
          </p:nvCxnSpPr>
          <p:spPr>
            <a:xfrm>
              <a:off x="200160" y="2395440"/>
              <a:ext cx="1800" cy="4163040"/>
            </a:xfrm>
            <a:prstGeom prst="straightConnector1">
              <a:avLst/>
            </a:prstGeom>
            <a:ln w="63360">
              <a:solidFill>
                <a:srgbClr val="4f81bd"/>
              </a:solidFill>
              <a:miter/>
            </a:ln>
          </p:spPr>
        </p:cxnSp>
        <p:cxnSp>
          <p:nvCxnSpPr>
            <p:cNvPr id="91" name="AutoShape 17"/>
            <p:cNvCxnSpPr/>
            <p:nvPr/>
          </p:nvCxnSpPr>
          <p:spPr>
            <a:xfrm>
              <a:off x="201600" y="6557760"/>
              <a:ext cx="6287040" cy="1080"/>
            </a:xfrm>
            <a:prstGeom prst="straightConnector1">
              <a:avLst/>
            </a:prstGeom>
            <a:ln w="63360">
              <a:solidFill>
                <a:srgbClr val="4f81bd"/>
              </a:solidFill>
              <a:miter/>
            </a:ln>
          </p:spPr>
        </p:cxnSp>
        <p:cxnSp>
          <p:nvCxnSpPr>
            <p:cNvPr id="92" name="AutoShape 16"/>
            <p:cNvCxnSpPr/>
            <p:nvPr/>
          </p:nvCxnSpPr>
          <p:spPr>
            <a:xfrm>
              <a:off x="6488280" y="5388480"/>
              <a:ext cx="2160" cy="1169640"/>
            </a:xfrm>
            <a:prstGeom prst="straightConnector1">
              <a:avLst/>
            </a:prstGeom>
            <a:ln w="63360">
              <a:solidFill>
                <a:srgbClr val="4f81bd"/>
              </a:solidFill>
              <a:miter/>
            </a:ln>
          </p:spPr>
        </p:cxnSp>
        <p:sp>
          <p:nvSpPr>
            <p:cNvPr id="93" name="AutoShape 15"/>
            <p:cNvSpPr/>
            <p:nvPr/>
          </p:nvSpPr>
          <p:spPr>
            <a:xfrm>
              <a:off x="6489720" y="5236920"/>
              <a:ext cx="290520" cy="43848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4"/>
            <p:cNvSpPr/>
            <p:nvPr/>
          </p:nvSpPr>
          <p:spPr>
            <a:xfrm>
              <a:off x="6489720" y="5827320"/>
              <a:ext cx="290520" cy="43848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3"/>
            <p:cNvSpPr/>
            <p:nvPr/>
          </p:nvSpPr>
          <p:spPr>
            <a:xfrm>
              <a:off x="200520" y="3866040"/>
              <a:ext cx="425160" cy="49500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2"/>
            <p:cNvSpPr/>
            <p:nvPr/>
          </p:nvSpPr>
          <p:spPr>
            <a:xfrm>
              <a:off x="201600" y="5675760"/>
              <a:ext cx="424080" cy="49500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AutoShape 11"/>
            <p:cNvCxnSpPr/>
            <p:nvPr/>
          </p:nvCxnSpPr>
          <p:spPr>
            <a:xfrm>
              <a:off x="6150240" y="2395440"/>
              <a:ext cx="2160" cy="333360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</a:ln>
          </p:spPr>
        </p:cxnSp>
        <p:sp>
          <p:nvSpPr>
            <p:cNvPr id="98" name="AutoShape 10"/>
            <p:cNvSpPr/>
            <p:nvPr/>
          </p:nvSpPr>
          <p:spPr>
            <a:xfrm>
              <a:off x="6150240" y="3674160"/>
              <a:ext cx="527040" cy="275040"/>
            </a:xfrm>
            <a:prstGeom prst="rightArrow">
              <a:avLst>
                <a:gd name="adj1" fmla="val 50000"/>
                <a:gd name="adj2" fmla="val 47906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9"/>
            <p:cNvSpPr/>
            <p:nvPr/>
          </p:nvSpPr>
          <p:spPr>
            <a:xfrm>
              <a:off x="6150240" y="4314960"/>
              <a:ext cx="528480" cy="276480"/>
            </a:xfrm>
            <a:prstGeom prst="rightArrow">
              <a:avLst>
                <a:gd name="adj1" fmla="val 50000"/>
                <a:gd name="adj2" fmla="val 48007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8"/>
            <p:cNvSpPr/>
            <p:nvPr/>
          </p:nvSpPr>
          <p:spPr>
            <a:xfrm>
              <a:off x="5811480" y="5065920"/>
              <a:ext cx="337680" cy="325440"/>
            </a:xfrm>
            <a:prstGeom prst="leftArrow">
              <a:avLst>
                <a:gd name="adj1" fmla="val 50000"/>
                <a:gd name="adj2" fmla="val 2624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5811480" y="4532040"/>
              <a:ext cx="337680" cy="322560"/>
            </a:xfrm>
            <a:prstGeom prst="leftArrow">
              <a:avLst>
                <a:gd name="adj1" fmla="val 50000"/>
                <a:gd name="adj2" fmla="val 26172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6"/>
            <p:cNvSpPr/>
            <p:nvPr/>
          </p:nvSpPr>
          <p:spPr>
            <a:xfrm>
              <a:off x="5811480" y="4037040"/>
              <a:ext cx="337680" cy="324000"/>
            </a:xfrm>
            <a:prstGeom prst="leftArrow">
              <a:avLst>
                <a:gd name="adj1" fmla="val 50000"/>
                <a:gd name="adj2" fmla="val 26162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5814000" y="3521160"/>
              <a:ext cx="336240" cy="324000"/>
            </a:xfrm>
            <a:prstGeom prst="leftArrow">
              <a:avLst>
                <a:gd name="adj1" fmla="val 50000"/>
                <a:gd name="adj2" fmla="val 26146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4"/>
            <p:cNvSpPr/>
            <p:nvPr/>
          </p:nvSpPr>
          <p:spPr>
            <a:xfrm>
              <a:off x="5811480" y="5590800"/>
              <a:ext cx="337680" cy="322560"/>
            </a:xfrm>
            <a:prstGeom prst="leftArrow">
              <a:avLst>
                <a:gd name="adj1" fmla="val 50000"/>
                <a:gd name="adj2" fmla="val 26172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AutoShape 3"/>
            <p:cNvCxnSpPr/>
            <p:nvPr/>
          </p:nvCxnSpPr>
          <p:spPr>
            <a:xfrm>
              <a:off x="3146760" y="2342520"/>
              <a:ext cx="2160" cy="3656520"/>
            </a:xfrm>
            <a:prstGeom prst="straightConnector1">
              <a:avLst/>
            </a:prstGeom>
            <a:ln w="63360">
              <a:solidFill>
                <a:srgbClr val="9bbb59"/>
              </a:solidFill>
              <a:miter/>
            </a:ln>
          </p:spPr>
        </p:cxnSp>
        <p:sp>
          <p:nvSpPr>
            <p:cNvPr id="106" name="AutoShape 2"/>
            <p:cNvSpPr/>
            <p:nvPr/>
          </p:nvSpPr>
          <p:spPr>
            <a:xfrm>
              <a:off x="3148200" y="5913720"/>
              <a:ext cx="271440" cy="35208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рриториальное размещение объектов инфраструктуры поддержки деятельности в сфере высокотехнологичной промышл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6804000" y="692280"/>
            <a:ext cx="201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54061"/>
                </a:solidFill>
                <a:latin typeface="Arial"/>
                <a:ea typeface="Arial"/>
              </a:rPr>
              <a:t>Инновационно-производственная инфра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6732720" y="1916280"/>
            <a:ext cx="223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Центр испытаний и сертификации Воронежского авиастроительного клас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6659640" y="2997360"/>
            <a:ext cx="230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АО «Центр технологической компетенции аддитивных технолог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6948360" y="5516640"/>
            <a:ext cx="208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АО «Международный центр прототипирования» (ЕвроТехМ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6875640" y="4149720"/>
            <a:ext cx="216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Учебный центр профессиональной подготовки (Воронежсельмаш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6804000" y="1773360"/>
            <a:ext cx="412920" cy="4032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243e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7451640" y="2924280"/>
            <a:ext cx="412920" cy="40464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243e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7236000" y="4076640"/>
            <a:ext cx="412560" cy="4032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243e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6732720" y="5300640"/>
            <a:ext cx="411120" cy="4032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243e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3" descr="инновац.jpg"/>
          <p:cNvPicPr/>
          <p:nvPr/>
        </p:nvPicPr>
        <p:blipFill>
          <a:blip r:embed="rId2"/>
          <a:stretch/>
        </p:blipFill>
        <p:spPr>
          <a:xfrm>
            <a:off x="6516720" y="765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C:\Documents and Settings\mpigunova\Рабочий стол\итог 3.png"/>
          <p:cNvPicPr/>
          <p:nvPr/>
        </p:nvPicPr>
        <p:blipFill>
          <a:blip r:embed="rId3"/>
          <a:stretch/>
        </p:blipFill>
        <p:spPr>
          <a:xfrm>
            <a:off x="108000" y="765000"/>
            <a:ext cx="6372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362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имулирование развития высокотехнологичной промышленности на базе распределенной инфраструктур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762120"/>
          <a:ext cx="8785440" cy="6095880"/>
        </p:xfrm>
        <a:graphic>
          <a:graphicData uri="http://schemas.openxmlformats.org/drawingml/2006/table">
            <a:tbl>
              <a:tblPr/>
              <a:tblGrid>
                <a:gridCol w="2327400"/>
                <a:gridCol w="3529080"/>
                <a:gridCol w="29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нвестицион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нновационное и научно-техническ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витие кадрового потенц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3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истемная поддержка взаимодействия региональных производителей с крупными корпоративными заказчиками, заинтересованными в развитии отечественных высокотехнологичных производст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держка развития кластерных форм организации высокотехнологичного бизнес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здание и внедрение цифровых платформ для взаимодействия с инвестор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здание и внедрение цифровых платформ для коммуникации и кооперации в сферах промышленности, науки и образов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действие внедрению сетевых форм организаций промышленной, научно-технической и инновационн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оставление промышленным компаниям «инновационных ваучеров» на формирование заданий организациям государственного научно-образовательного сектора на выполнение исследований и разработок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доступности систем и инструментов технологического трансфера, обеспечивающих переход результатов исследований в стадию практического примене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работка стратегии кадрового обеспечения высокопроизводительного промышленного рос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едрение региональной модели оценки работодателями качества подготовки кадров в сфере промышлен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учение и тиражирование лучших практик взаимодействия работодателей с организациями среднего профессионального и высшего образования (в том числе организации работы базовых кафедр, научно-производственных и учебных центров, внедрения элементов дуального обучен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странствен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работка типовых моделей развития отдельных территорий области; рекомендации по развитию территорий с высокой концентрацией промышленного потенциала с учетом лучших региональных и муниципальных практ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Заголовок 1"/>
          <p:cNvSpPr/>
          <p:nvPr/>
        </p:nvSpPr>
        <p:spPr>
          <a:xfrm>
            <a:off x="285840" y="142920"/>
            <a:ext cx="878688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ект «Государственный фонд развития промышленности Воронежской обла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3132000" y="3573360"/>
            <a:ext cx="3024360" cy="1071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Сумма займ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от 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  <a:ea typeface="Arial"/>
              </a:rPr>
              <a:t>20 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до 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  <a:ea typeface="Arial"/>
              </a:rPr>
              <a:t>100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 млн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(</a:t>
            </a:r>
            <a:r>
              <a:rPr b="0" i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не более 50% общего бюд</a:t>
            </a:r>
            <a:r>
              <a:rPr b="0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жет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395280" y="2643120"/>
            <a:ext cx="84247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Предоставление целевых займов по ставке 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1-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5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  <a:ea typeface="Arial"/>
              </a:rPr>
              <a:t>%</a:t>
            </a:r>
            <a:r>
              <a:rPr b="0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 годовых на реализацию импортозамещающих проектов (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программа «Совместные займы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Прямоугольник 7"/>
          <p:cNvGrpSpPr/>
          <p:nvPr/>
        </p:nvGrpSpPr>
        <p:grpSpPr>
          <a:xfrm>
            <a:off x="285840" y="1036800"/>
            <a:ext cx="3798720" cy="1395360"/>
            <a:chOff x="285840" y="1036800"/>
            <a:chExt cx="3798720" cy="1395360"/>
          </a:xfrm>
        </p:grpSpPr>
        <p:pic>
          <p:nvPicPr>
            <p:cNvPr id="12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85840" y="1036800"/>
              <a:ext cx="37987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" y="1071720"/>
              <a:ext cx="353376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оздание государственного фонда развития промышленности Воронежской обла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Прямоугольник 8"/>
          <p:cNvSpPr/>
          <p:nvPr/>
        </p:nvSpPr>
        <p:spPr>
          <a:xfrm>
            <a:off x="4429080" y="1071720"/>
            <a:ext cx="4390920" cy="128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 Соглашения между Фондом развития промышленности и государственным фондом развития промышленности Воронеж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Скругленный прямоугольник 9"/>
          <p:cNvGrpSpPr/>
          <p:nvPr/>
        </p:nvGrpSpPr>
        <p:grpSpPr>
          <a:xfrm>
            <a:off x="334800" y="3462480"/>
            <a:ext cx="2689560" cy="1334880"/>
            <a:chOff x="334800" y="3462480"/>
            <a:chExt cx="2689560" cy="1334880"/>
          </a:xfrm>
        </p:grpSpPr>
        <p:pic>
          <p:nvPicPr>
            <p:cNvPr id="129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334800" y="3462480"/>
              <a:ext cx="268956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5760" y="3560760"/>
              <a:ext cx="24526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ОНД РАЗВИТИЯ ПРОМЫШЛЕННОСТИ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70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Скругленный прямоугольник 10"/>
          <p:cNvGrpSpPr/>
          <p:nvPr/>
        </p:nvGrpSpPr>
        <p:grpSpPr>
          <a:xfrm>
            <a:off x="6308640" y="3462480"/>
            <a:ext cx="2616120" cy="1334880"/>
            <a:chOff x="6308640" y="3462480"/>
            <a:chExt cx="2616120" cy="1334880"/>
          </a:xfrm>
        </p:grpSpPr>
        <p:pic>
          <p:nvPicPr>
            <p:cNvPr id="132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6308640" y="3462480"/>
              <a:ext cx="261612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432480" y="3560760"/>
              <a:ext cx="237960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ОНД РАЗВИТИЯ ПРОМЫШЛЕННОСТИ ВОРОНЕЖСКОЙ ОБЛАСТИ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0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Стрелка вправо 11"/>
          <p:cNvGrpSpPr/>
          <p:nvPr/>
        </p:nvGrpSpPr>
        <p:grpSpPr>
          <a:xfrm>
            <a:off x="3870360" y="1390680"/>
            <a:ext cx="757080" cy="682560"/>
            <a:chOff x="3870360" y="1390680"/>
            <a:chExt cx="757080" cy="682560"/>
          </a:xfrm>
        </p:grpSpPr>
        <p:pic>
          <p:nvPicPr>
            <p:cNvPr id="135" name="Стрелка вправо 11" descr=""/>
            <p:cNvPicPr/>
            <p:nvPr/>
          </p:nvPicPr>
          <p:blipFill>
            <a:blip r:embed="rId5"/>
            <a:stretch/>
          </p:blipFill>
          <p:spPr>
            <a:xfrm>
              <a:off x="3870360" y="1390680"/>
              <a:ext cx="7570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929040" y="1571760"/>
              <a:ext cx="500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Стрелка вниз 12"/>
          <p:cNvGrpSpPr/>
          <p:nvPr/>
        </p:nvGrpSpPr>
        <p:grpSpPr>
          <a:xfrm>
            <a:off x="6010200" y="2322360"/>
            <a:ext cx="689040" cy="463680"/>
            <a:chOff x="6010200" y="2322360"/>
            <a:chExt cx="689040" cy="463680"/>
          </a:xfrm>
        </p:grpSpPr>
        <p:pic>
          <p:nvPicPr>
            <p:cNvPr id="138" name="Стрелка вниз 12" descr=""/>
            <p:cNvPicPr/>
            <p:nvPr/>
          </p:nvPicPr>
          <p:blipFill>
            <a:blip r:embed="rId6"/>
            <a:stretch/>
          </p:blipFill>
          <p:spPr>
            <a:xfrm>
              <a:off x="6010200" y="2322360"/>
              <a:ext cx="6890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215040" y="2357280"/>
              <a:ext cx="28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61"/>
          <p:cNvGrpSpPr/>
          <p:nvPr/>
        </p:nvGrpSpPr>
        <p:grpSpPr>
          <a:xfrm>
            <a:off x="4151160" y="3249720"/>
            <a:ext cx="908280" cy="468360"/>
            <a:chOff x="4151160" y="3249720"/>
            <a:chExt cx="908280" cy="468360"/>
          </a:xfrm>
        </p:grpSpPr>
        <p:pic>
          <p:nvPicPr>
            <p:cNvPr id="141" name="AutoShape 61" descr=""/>
            <p:cNvPicPr/>
            <p:nvPr/>
          </p:nvPicPr>
          <p:blipFill>
            <a:blip r:embed="rId7"/>
            <a:stretch/>
          </p:blipFill>
          <p:spPr>
            <a:xfrm>
              <a:off x="4151160" y="3249720"/>
              <a:ext cx="9082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rot="5400000">
              <a:off x="4521240" y="3066120"/>
              <a:ext cx="1764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Нашивка 14"/>
          <p:cNvGrpSpPr/>
          <p:nvPr/>
        </p:nvGrpSpPr>
        <p:grpSpPr>
          <a:xfrm>
            <a:off x="5950080" y="3462480"/>
            <a:ext cx="474480" cy="542880"/>
            <a:chOff x="5950080" y="3462480"/>
            <a:chExt cx="474480" cy="542880"/>
          </a:xfrm>
        </p:grpSpPr>
        <p:pic>
          <p:nvPicPr>
            <p:cNvPr id="144" name="Нашивка 14" descr=""/>
            <p:cNvPicPr/>
            <p:nvPr/>
          </p:nvPicPr>
          <p:blipFill>
            <a:blip r:embed="rId8"/>
            <a:stretch/>
          </p:blipFill>
          <p:spPr>
            <a:xfrm>
              <a:off x="5950080" y="3462480"/>
              <a:ext cx="4744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012000" y="350028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Нашивка 15"/>
          <p:cNvGrpSpPr/>
          <p:nvPr/>
        </p:nvGrpSpPr>
        <p:grpSpPr>
          <a:xfrm>
            <a:off x="2786040" y="3462480"/>
            <a:ext cx="469800" cy="542880"/>
            <a:chOff x="2786040" y="3462480"/>
            <a:chExt cx="469800" cy="542880"/>
          </a:xfrm>
        </p:grpSpPr>
        <p:pic>
          <p:nvPicPr>
            <p:cNvPr id="147" name="Нашивка 15" descr=""/>
            <p:cNvPicPr/>
            <p:nvPr/>
          </p:nvPicPr>
          <p:blipFill>
            <a:blip r:embed="rId9"/>
            <a:stretch/>
          </p:blipFill>
          <p:spPr>
            <a:xfrm>
              <a:off x="2786040" y="3462480"/>
              <a:ext cx="4698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843280" y="350028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250920" y="4941720"/>
          <a:ext cx="8569080" cy="1570320"/>
        </p:xfrm>
        <a:graphic>
          <a:graphicData uri="http://schemas.openxmlformats.org/drawingml/2006/table">
            <a:tbl>
              <a:tblPr/>
              <a:tblGrid>
                <a:gridCol w="1800000"/>
                <a:gridCol w="1627200"/>
                <a:gridCol w="1714680"/>
                <a:gridCol w="1712880"/>
                <a:gridCol w="171432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овия финансирования (в млн 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ЕКТЫ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ПЛЕКТУЮЩИЕ ИЗДЕ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развития промыш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вместные займы с субъектами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развития промыш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вместные займы с субъектами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зай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50 до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20 до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50 до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20 до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 менее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 менее 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 менее 7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 менее 2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Межотраслевой проект «Развитие инфраструктуры поддержки инноваций в сфере промышленных технологий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0" y="1306440"/>
            <a:ext cx="9144000" cy="5551560"/>
            <a:chOff x="0" y="1306440"/>
            <a:chExt cx="9144000" cy="5551560"/>
          </a:xfrm>
        </p:grpSpPr>
        <p:sp>
          <p:nvSpPr>
            <p:cNvPr id="153" name="AutoShape 31"/>
            <p:cNvSpPr/>
            <p:nvPr/>
          </p:nvSpPr>
          <p:spPr>
            <a:xfrm>
              <a:off x="0" y="1306440"/>
              <a:ext cx="9144000" cy="5551560"/>
            </a:xfrm>
            <a:prstGeom prst="rect">
              <a:avLst/>
            </a:prstGeom>
            <a:noFill/>
            <a:ln w="9360">
              <a:solidFill>
                <a:srgbClr val="0f2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0"/>
            <p:cNvSpPr/>
            <p:nvPr/>
          </p:nvSpPr>
          <p:spPr>
            <a:xfrm>
              <a:off x="210600" y="1595520"/>
              <a:ext cx="8687880" cy="91476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оздание институциональных условий для развития кооперации науки и промышленности, внедрения передовых промышленных технологий на промышленных предприятиях Воронежской обла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9"/>
            <p:cNvSpPr/>
            <p:nvPr/>
          </p:nvSpPr>
          <p:spPr>
            <a:xfrm>
              <a:off x="210600" y="2682720"/>
              <a:ext cx="2061000" cy="11638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ежвузовский инжиниринговый центр (МИЦ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8"/>
            <p:cNvSpPr/>
            <p:nvPr/>
          </p:nvSpPr>
          <p:spPr>
            <a:xfrm>
              <a:off x="6583680" y="2682720"/>
              <a:ext cx="2316240" cy="11638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ежвузовский центр экспертизы и сопровождения высокотехнологичных прое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7"/>
            <p:cNvSpPr/>
            <p:nvPr/>
          </p:nvSpPr>
          <p:spPr>
            <a:xfrm>
              <a:off x="2442240" y="2682720"/>
              <a:ext cx="1834920" cy="11638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гиональный центр инжиниринга Воронежской обла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4446000" y="2682720"/>
              <a:ext cx="1956960" cy="11638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Центр кластерного развития промышленности Воронежской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5312160" y="4006440"/>
              <a:ext cx="3587400" cy="73368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оздание Совета регионального развития на базе ФГБОУ ВО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«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ГУ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4"/>
            <p:cNvSpPr/>
            <p:nvPr/>
          </p:nvSpPr>
          <p:spPr>
            <a:xfrm>
              <a:off x="5491440" y="4511520"/>
              <a:ext cx="3249720" cy="1142640"/>
            </a:xfrm>
            <a:prstGeom prst="rect">
              <a:avLst/>
            </a:prstGeom>
            <a:gradFill rotWithShape="0">
              <a:gsLst>
                <a:gs pos="0">
                  <a:srgbClr val="fabf8f"/>
                </a:gs>
                <a:gs pos="50000">
                  <a:srgbClr val="fde9d9"/>
                </a:gs>
                <a:gs pos="100000">
                  <a:srgbClr val="fabf8f"/>
                </a:gs>
              </a:gsLst>
              <a:lin ang="189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азработка и внедрение модели координационно-контрольного органа в сфере сопровождения высокотехнологичных проектов (в качестве рабочей (экспертной) группы при Совет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4446000" y="5759280"/>
              <a:ext cx="4452480" cy="96228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еспечение участия в работе Совета представителей крупного бизнеса, руководителей объединений предпринимателей в высокотехнологичных отрасля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2"/>
            <p:cNvSpPr/>
            <p:nvPr/>
          </p:nvSpPr>
          <p:spPr>
            <a:xfrm>
              <a:off x="614520" y="4006440"/>
              <a:ext cx="4341960" cy="93168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пределение приоритетных технологий, развиваемых вузами Воронежской област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–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поставщиками передовых технологий для предприятий промышлен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1"/>
            <p:cNvSpPr/>
            <p:nvPr/>
          </p:nvSpPr>
          <p:spPr>
            <a:xfrm>
              <a:off x="614520" y="5014080"/>
              <a:ext cx="3662640" cy="170748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дписание Соглашения о создании МИЦ распределенного тип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дписание Соглашений о сотрудничеств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0"/>
            <p:cNvSpPr/>
            <p:nvPr/>
          </p:nvSpPr>
          <p:spPr>
            <a:xfrm rot="5400000">
              <a:off x="1338480" y="2266200"/>
              <a:ext cx="286200" cy="5457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63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9"/>
            <p:cNvSpPr/>
            <p:nvPr/>
          </p:nvSpPr>
          <p:spPr>
            <a:xfrm rot="5400000">
              <a:off x="3238920" y="2265480"/>
              <a:ext cx="287640" cy="5461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63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8"/>
            <p:cNvSpPr/>
            <p:nvPr/>
          </p:nvSpPr>
          <p:spPr>
            <a:xfrm rot="5400000">
              <a:off x="5274360" y="2265120"/>
              <a:ext cx="286560" cy="545760"/>
            </a:xfrm>
            <a:custGeom>
              <a:avLst/>
              <a:gdLst>
                <a:gd name="textAreaLeft" fmla="*/ 0 w 286560"/>
                <a:gd name="textAreaRight" fmla="*/ 286560 w 28656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63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7"/>
            <p:cNvSpPr/>
            <p:nvPr/>
          </p:nvSpPr>
          <p:spPr>
            <a:xfrm rot="5400000">
              <a:off x="7559280" y="2265480"/>
              <a:ext cx="287640" cy="545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63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6"/>
            <p:cNvSpPr/>
            <p:nvPr/>
          </p:nvSpPr>
          <p:spPr>
            <a:xfrm>
              <a:off x="7486560" y="3846960"/>
              <a:ext cx="489960" cy="16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5"/>
            <p:cNvSpPr/>
            <p:nvPr/>
          </p:nvSpPr>
          <p:spPr>
            <a:xfrm>
              <a:off x="5055840" y="3846960"/>
              <a:ext cx="143280" cy="1978920"/>
            </a:xfrm>
            <a:prstGeom prst="downArrow">
              <a:avLst>
                <a:gd name="adj1" fmla="val 50000"/>
                <a:gd name="adj2" fmla="val 345545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14"/>
            <p:cNvSpPr/>
            <p:nvPr/>
          </p:nvSpPr>
          <p:spPr>
            <a:xfrm>
              <a:off x="5690880" y="3846960"/>
              <a:ext cx="525600" cy="16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3"/>
            <p:cNvSpPr/>
            <p:nvPr/>
          </p:nvSpPr>
          <p:spPr>
            <a:xfrm>
              <a:off x="4446000" y="3846960"/>
              <a:ext cx="507960" cy="16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2"/>
            <p:cNvSpPr/>
            <p:nvPr/>
          </p:nvSpPr>
          <p:spPr>
            <a:xfrm>
              <a:off x="3110040" y="3846960"/>
              <a:ext cx="546120" cy="16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>
              <a:off x="1209960" y="3846960"/>
              <a:ext cx="546120" cy="16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AutoShape 10"/>
            <p:cNvCxnSpPr/>
            <p:nvPr/>
          </p:nvCxnSpPr>
          <p:spPr>
            <a:xfrm>
              <a:off x="341280" y="3845520"/>
              <a:ext cx="2160" cy="2600280"/>
            </a:xfrm>
            <a:prstGeom prst="straightConnector1">
              <a:avLst/>
            </a:prstGeom>
            <a:ln w="63360">
              <a:solidFill>
                <a:srgbClr val="4f81bd"/>
              </a:solidFill>
              <a:miter/>
            </a:ln>
          </p:spPr>
        </p:cxnSp>
        <p:sp>
          <p:nvSpPr>
            <p:cNvPr id="175" name="AutoShape 9"/>
            <p:cNvSpPr/>
            <p:nvPr/>
          </p:nvSpPr>
          <p:spPr>
            <a:xfrm>
              <a:off x="341280" y="4170960"/>
              <a:ext cx="272880" cy="39816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8"/>
            <p:cNvSpPr/>
            <p:nvPr/>
          </p:nvSpPr>
          <p:spPr>
            <a:xfrm>
              <a:off x="342720" y="6216840"/>
              <a:ext cx="271440" cy="41904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7"/>
            <p:cNvSpPr/>
            <p:nvPr/>
          </p:nvSpPr>
          <p:spPr>
            <a:xfrm>
              <a:off x="4277160" y="5100120"/>
              <a:ext cx="869760" cy="154080"/>
            </a:xfrm>
            <a:prstGeom prst="leftArrow">
              <a:avLst>
                <a:gd name="adj1" fmla="val 50000"/>
                <a:gd name="adj2" fmla="val 141879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2167560" y="3215880"/>
              <a:ext cx="272880" cy="399600"/>
            </a:xfrm>
            <a:custGeom>
              <a:avLst/>
              <a:gdLst>
                <a:gd name="textAreaLeft" fmla="*/ 0 w 272880"/>
                <a:gd name="textAreaRight" fmla="*/ 272880 w 27288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63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4173120" y="3217320"/>
              <a:ext cx="272880" cy="398160"/>
            </a:xfrm>
            <a:custGeom>
              <a:avLst/>
              <a:gdLst>
                <a:gd name="textAreaLeft" fmla="*/ 0 w 272880"/>
                <a:gd name="textAreaRight" fmla="*/ 272880 w 27288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63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4"/>
            <p:cNvSpPr/>
            <p:nvPr/>
          </p:nvSpPr>
          <p:spPr>
            <a:xfrm>
              <a:off x="6310440" y="3215880"/>
              <a:ext cx="272880" cy="398160"/>
            </a:xfrm>
            <a:custGeom>
              <a:avLst/>
              <a:gdLst>
                <a:gd name="textAreaLeft" fmla="*/ 0 w 272880"/>
                <a:gd name="textAreaRight" fmla="*/ 272880 w 27288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63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Рисунок 32" descr="vguit1.jpg"/>
          <p:cNvPicPr/>
          <p:nvPr/>
        </p:nvPicPr>
        <p:blipFill>
          <a:blip r:embed="rId2"/>
          <a:stretch/>
        </p:blipFill>
        <p:spPr>
          <a:xfrm>
            <a:off x="1908000" y="5950080"/>
            <a:ext cx="1079640" cy="7570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33" descr="512x512bb.jpg"/>
          <p:cNvPicPr/>
          <p:nvPr/>
        </p:nvPicPr>
        <p:blipFill>
          <a:blip r:embed="rId3"/>
          <a:stretch/>
        </p:blipFill>
        <p:spPr>
          <a:xfrm>
            <a:off x="755640" y="5877000"/>
            <a:ext cx="936720" cy="8366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4" descr="gerbvgtua-40_JfuydsI.png.900x0_q85_crop.jpg"/>
          <p:cNvPicPr/>
          <p:nvPr/>
        </p:nvPicPr>
        <p:blipFill>
          <a:blip r:embed="rId4"/>
          <a:stretch/>
        </p:blipFill>
        <p:spPr>
          <a:xfrm>
            <a:off x="3203640" y="5877000"/>
            <a:ext cx="9367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спективы развития высокотехнологичного сектора промышленности регио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Прямоугольник 3"/>
          <p:cNvGrpSpPr/>
          <p:nvPr/>
        </p:nvGrpSpPr>
        <p:grpSpPr>
          <a:xfrm>
            <a:off x="189000" y="1378080"/>
            <a:ext cx="4078080" cy="1401480"/>
            <a:chOff x="189000" y="1378080"/>
            <a:chExt cx="4078080" cy="1401480"/>
          </a:xfrm>
        </p:grpSpPr>
        <p:pic>
          <p:nvPicPr>
            <p:cNvPr id="186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89000" y="1378080"/>
              <a:ext cx="407808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50920" y="1413000"/>
              <a:ext cx="39607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54061"/>
                  </a:solidFill>
                  <a:latin typeface="Arial"/>
                  <a:ea typeface="Arial"/>
                </a:rPr>
                <a:t>ПРОМЫШЛЕННОЕ ОБЕСПЕЧЕНИЕ РЕАЛИЗАЦИИ ПРОЕКТОВ ПО ПРИОРИТЕТНЫМ  НАПРАВЛЕНИЯМ СТРАТЕГИЧЕСКОГО РАЗВИТИЯ </a:t>
              </a:r>
              <a:r>
                <a:rPr b="0" lang="ru-RU" sz="1800" spc="-1" strike="noStrike">
                  <a:solidFill>
                    <a:srgbClr val="254061"/>
                  </a:solidFill>
                  <a:latin typeface="Calibri"/>
                </a:rPr>
                <a:t>РОССИЙСКОЙ ФЕДЕР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Прямоугольник 4"/>
          <p:cNvGrpSpPr/>
          <p:nvPr/>
        </p:nvGrpSpPr>
        <p:grpSpPr>
          <a:xfrm>
            <a:off x="4584600" y="1378080"/>
            <a:ext cx="4291200" cy="1401480"/>
            <a:chOff x="4584600" y="1378080"/>
            <a:chExt cx="4291200" cy="1401480"/>
          </a:xfrm>
        </p:grpSpPr>
        <p:pic>
          <p:nvPicPr>
            <p:cNvPr id="18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584600" y="1378080"/>
              <a:ext cx="429120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643280" y="1413000"/>
              <a:ext cx="41767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54061"/>
                  </a:solidFill>
                  <a:latin typeface="Arial"/>
                  <a:ea typeface="Arial"/>
                </a:rPr>
                <a:t>СОЗДАНИЕ И РАЗВИТИЕ РЫНКОВ НАЦИОНАЛЬНОЙ ТЕХНОЛОГИЧЕСКОЙ ИНИЦИАТ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Прямоугольник 6"/>
          <p:cNvSpPr/>
          <p:nvPr/>
        </p:nvSpPr>
        <p:spPr>
          <a:xfrm>
            <a:off x="5003640" y="2924280"/>
            <a:ext cx="3816360" cy="9874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Беспилотные летательные аппараты для нужд сельского и лесного хозяйства, строительства, безопасности, доставки грузов и логис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7"/>
          <p:cNvSpPr/>
          <p:nvPr/>
        </p:nvSpPr>
        <p:spPr>
          <a:xfrm>
            <a:off x="5003640" y="4076640"/>
            <a:ext cx="3816360" cy="1008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Роботизированные транспортные средства. Подводная и карьерная робототехника. Технологии добычи полезных ископаемых на шельф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8"/>
          <p:cNvSpPr/>
          <p:nvPr/>
        </p:nvSpPr>
        <p:spPr>
          <a:xfrm>
            <a:off x="5003640" y="5300640"/>
            <a:ext cx="3816360" cy="576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Индустрия реабилитации с применением нейротехнологий. Биомедиц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9"/>
          <p:cNvSpPr/>
          <p:nvPr/>
        </p:nvSpPr>
        <p:spPr>
          <a:xfrm>
            <a:off x="611280" y="2924280"/>
            <a:ext cx="3600360" cy="1152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Создание и производство современного медицинского оборудования, оборудования для обеспечения беспроводного мультимедийного доступа к ресурсам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0"/>
          <p:cNvSpPr/>
          <p:nvPr/>
        </p:nvSpPr>
        <p:spPr>
          <a:xfrm>
            <a:off x="611280" y="4292640"/>
            <a:ext cx="3600360" cy="43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ереработ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и утилизация отх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1"/>
          <p:cNvSpPr/>
          <p:nvPr/>
        </p:nvSpPr>
        <p:spPr>
          <a:xfrm>
            <a:off x="611280" y="4869000"/>
            <a:ext cx="3600360" cy="1728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Внедрение  высокоэкономичных источников освещения и систем интеллектуального управления объектами городской и жилищной инфраструктуры («умный город», «интеллектуальный дом»), систем учета объема коммунальных услу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2"/>
          <p:cNvSpPr/>
          <p:nvPr/>
        </p:nvSpPr>
        <p:spPr>
          <a:xfrm>
            <a:off x="5003640" y="6021360"/>
            <a:ext cx="3816360" cy="647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Распределенная (в т.ч. персональная) энерге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14"/>
          <p:cNvSpPr/>
          <p:nvPr/>
        </p:nvSpPr>
        <p:spPr>
          <a:xfrm>
            <a:off x="395280" y="2708280"/>
            <a:ext cx="0" cy="35290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15"/>
          <p:cNvSpPr/>
          <p:nvPr/>
        </p:nvSpPr>
        <p:spPr>
          <a:xfrm>
            <a:off x="4788000" y="2708280"/>
            <a:ext cx="0" cy="3816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ятиугольник 17"/>
          <p:cNvGrpSpPr/>
          <p:nvPr/>
        </p:nvGrpSpPr>
        <p:grpSpPr>
          <a:xfrm>
            <a:off x="334800" y="2962440"/>
            <a:ext cx="330480" cy="396720"/>
            <a:chOff x="334800" y="2962440"/>
            <a:chExt cx="330480" cy="396720"/>
          </a:xfrm>
        </p:grpSpPr>
        <p:pic>
          <p:nvPicPr>
            <p:cNvPr id="201" name="Пятиугольник 17" descr=""/>
            <p:cNvPicPr/>
            <p:nvPr/>
          </p:nvPicPr>
          <p:blipFill>
            <a:blip r:embed="rId4"/>
            <a:stretch/>
          </p:blipFill>
          <p:spPr>
            <a:xfrm>
              <a:off x="334800" y="2962440"/>
              <a:ext cx="330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95280" y="2997360"/>
              <a:ext cx="162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Пятиугольник 18"/>
          <p:cNvGrpSpPr/>
          <p:nvPr/>
        </p:nvGrpSpPr>
        <p:grpSpPr>
          <a:xfrm>
            <a:off x="334800" y="4475160"/>
            <a:ext cx="330480" cy="395280"/>
            <a:chOff x="334800" y="4475160"/>
            <a:chExt cx="330480" cy="395280"/>
          </a:xfrm>
        </p:grpSpPr>
        <p:pic>
          <p:nvPicPr>
            <p:cNvPr id="204" name="Пятиугольник 18" descr=""/>
            <p:cNvPicPr/>
            <p:nvPr/>
          </p:nvPicPr>
          <p:blipFill>
            <a:blip r:embed="rId5"/>
            <a:stretch/>
          </p:blipFill>
          <p:spPr>
            <a:xfrm>
              <a:off x="334800" y="4475160"/>
              <a:ext cx="3304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95280" y="4508640"/>
              <a:ext cx="1620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Пятиугольник 19"/>
          <p:cNvGrpSpPr/>
          <p:nvPr/>
        </p:nvGrpSpPr>
        <p:grpSpPr>
          <a:xfrm>
            <a:off x="334800" y="5986440"/>
            <a:ext cx="330480" cy="395280"/>
            <a:chOff x="334800" y="5986440"/>
            <a:chExt cx="330480" cy="395280"/>
          </a:xfrm>
        </p:grpSpPr>
        <p:pic>
          <p:nvPicPr>
            <p:cNvPr id="207" name="Пятиугольник 19" descr=""/>
            <p:cNvPicPr/>
            <p:nvPr/>
          </p:nvPicPr>
          <p:blipFill>
            <a:blip r:embed="rId6"/>
            <a:stretch/>
          </p:blipFill>
          <p:spPr>
            <a:xfrm>
              <a:off x="334800" y="5986440"/>
              <a:ext cx="3304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95280" y="6021360"/>
              <a:ext cx="162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ятиугольник 20"/>
          <p:cNvGrpSpPr/>
          <p:nvPr/>
        </p:nvGrpSpPr>
        <p:grpSpPr>
          <a:xfrm>
            <a:off x="4724280" y="2889360"/>
            <a:ext cx="335160" cy="396720"/>
            <a:chOff x="4724280" y="2889360"/>
            <a:chExt cx="335160" cy="396720"/>
          </a:xfrm>
        </p:grpSpPr>
        <p:pic>
          <p:nvPicPr>
            <p:cNvPr id="210" name="Пятиугольник 20" descr=""/>
            <p:cNvPicPr/>
            <p:nvPr/>
          </p:nvPicPr>
          <p:blipFill>
            <a:blip r:embed="rId7"/>
            <a:stretch/>
          </p:blipFill>
          <p:spPr>
            <a:xfrm>
              <a:off x="4724280" y="2889360"/>
              <a:ext cx="3351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788000" y="2924280"/>
              <a:ext cx="1620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ятиугольник 21"/>
          <p:cNvGrpSpPr/>
          <p:nvPr/>
        </p:nvGrpSpPr>
        <p:grpSpPr>
          <a:xfrm>
            <a:off x="4724280" y="4181400"/>
            <a:ext cx="335160" cy="403200"/>
            <a:chOff x="4724280" y="4181400"/>
            <a:chExt cx="335160" cy="403200"/>
          </a:xfrm>
        </p:grpSpPr>
        <p:pic>
          <p:nvPicPr>
            <p:cNvPr id="213" name="Пятиугольник 21" descr=""/>
            <p:cNvPicPr/>
            <p:nvPr/>
          </p:nvPicPr>
          <p:blipFill>
            <a:blip r:embed="rId8"/>
            <a:stretch/>
          </p:blipFill>
          <p:spPr>
            <a:xfrm>
              <a:off x="4724280" y="4181400"/>
              <a:ext cx="3351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788000" y="4221000"/>
              <a:ext cx="162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ятиугольник 22"/>
          <p:cNvGrpSpPr/>
          <p:nvPr/>
        </p:nvGrpSpPr>
        <p:grpSpPr>
          <a:xfrm>
            <a:off x="4724280" y="5407200"/>
            <a:ext cx="335160" cy="396720"/>
            <a:chOff x="4724280" y="5407200"/>
            <a:chExt cx="335160" cy="396720"/>
          </a:xfrm>
        </p:grpSpPr>
        <p:pic>
          <p:nvPicPr>
            <p:cNvPr id="216" name="Пятиугольник 22" descr=""/>
            <p:cNvPicPr/>
            <p:nvPr/>
          </p:nvPicPr>
          <p:blipFill>
            <a:blip r:embed="rId9"/>
            <a:stretch/>
          </p:blipFill>
          <p:spPr>
            <a:xfrm>
              <a:off x="4724280" y="5407200"/>
              <a:ext cx="3351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788000" y="5445000"/>
              <a:ext cx="162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Пятиугольник 23"/>
          <p:cNvGrpSpPr/>
          <p:nvPr/>
        </p:nvGrpSpPr>
        <p:grpSpPr>
          <a:xfrm>
            <a:off x="4724280" y="6419880"/>
            <a:ext cx="335160" cy="395280"/>
            <a:chOff x="4724280" y="6419880"/>
            <a:chExt cx="335160" cy="395280"/>
          </a:xfrm>
        </p:grpSpPr>
        <p:pic>
          <p:nvPicPr>
            <p:cNvPr id="219" name="Пятиугольник 23" descr=""/>
            <p:cNvPicPr/>
            <p:nvPr/>
          </p:nvPicPr>
          <p:blipFill>
            <a:blip r:embed="rId10"/>
            <a:stretch/>
          </p:blipFill>
          <p:spPr>
            <a:xfrm>
              <a:off x="4724280" y="6419880"/>
              <a:ext cx="3351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788000" y="6453360"/>
              <a:ext cx="1620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Рисунок 25" descr="451d5ecd2d1a6d494a82ae756b893332.jpg"/>
          <p:cNvPicPr/>
          <p:nvPr/>
        </p:nvPicPr>
        <p:blipFill>
          <a:blip r:embed="rId11"/>
          <a:stretch/>
        </p:blipFill>
        <p:spPr>
          <a:xfrm>
            <a:off x="4284720" y="3284640"/>
            <a:ext cx="1150920" cy="7920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6" descr="Savant_TrueImage-2.jpg"/>
          <p:cNvPicPr/>
          <p:nvPr/>
        </p:nvPicPr>
        <p:blipFill>
          <a:blip r:embed="rId12"/>
          <a:stretch/>
        </p:blipFill>
        <p:spPr>
          <a:xfrm>
            <a:off x="108000" y="5013360"/>
            <a:ext cx="1150920" cy="7920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7" descr="newsbel.by-13.05.2017-JZIAqDVO4xtkHp6LiZNoFMjuecR7rGQa.jpg"/>
          <p:cNvPicPr/>
          <p:nvPr/>
        </p:nvPicPr>
        <p:blipFill>
          <a:blip r:embed="rId13"/>
          <a:stretch/>
        </p:blipFill>
        <p:spPr>
          <a:xfrm>
            <a:off x="4284720" y="4581360"/>
            <a:ext cx="1187280" cy="7923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9" descr="eco-technology-powerpoint-backgrounds.jpg"/>
          <p:cNvPicPr/>
          <p:nvPr/>
        </p:nvPicPr>
        <p:blipFill>
          <a:blip r:embed="rId14"/>
          <a:stretch/>
        </p:blipFill>
        <p:spPr>
          <a:xfrm>
            <a:off x="4284720" y="5732640"/>
            <a:ext cx="1150920" cy="8143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1" descr="blog5.jpg"/>
          <p:cNvPicPr/>
          <p:nvPr/>
        </p:nvPicPr>
        <p:blipFill>
          <a:blip r:embed="rId15"/>
          <a:stretch/>
        </p:blipFill>
        <p:spPr>
          <a:xfrm>
            <a:off x="108000" y="3429000"/>
            <a:ext cx="1274760" cy="8762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2" descr="12_Recycle1.jpg"/>
          <p:cNvPicPr/>
          <p:nvPr/>
        </p:nvPicPr>
        <p:blipFill>
          <a:blip r:embed="rId16"/>
          <a:stretch/>
        </p:blipFill>
        <p:spPr>
          <a:xfrm>
            <a:off x="2700360" y="4149720"/>
            <a:ext cx="127944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0T06:13:53Z</dcterms:created>
  <dc:creator>mpigunova</dc:creator>
  <dc:description/>
  <dc:language>en-US</dc:language>
  <cp:lastModifiedBy>mpigunova</cp:lastModifiedBy>
  <dcterms:modified xsi:type="dcterms:W3CDTF">2017-11-01T07:29:48Z</dcterms:modified>
  <cp:revision>59</cp:revision>
  <dc:subject/>
  <dc:title>Слайд 1</dc:title>
</cp:coreProperties>
</file>